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17440" y="696960"/>
            <a:ext cx="464688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689040" y="4416120"/>
            <a:ext cx="55036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E19E-6C30-4A4E-9DEE-B372EFF7B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17440" y="696960"/>
            <a:ext cx="4646880" cy="3486240"/>
          </a:xfrm>
          <a:prstGeom prst="rect">
            <a:avLst/>
          </a:prstGeom>
          <a:ln w="0">
            <a:noFill/>
          </a:ln>
        </p:spPr>
      </p:sp>
      <p:sp>
        <p:nvSpPr>
          <p:cNvPr id="30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0-25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opening a bank account.  For some people, it’s a way to keep their money safe.  But there might also be some other benefits to having a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 ever used a bank? How was your experience? What did you use it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5378B-9067-4B0F-91EC-BA8B23727D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6880" cy="3486240"/>
          </a:xfrm>
          <a:prstGeom prst="rect">
            <a:avLst/>
          </a:prstGeom>
          <a:ln w="0">
            <a:noFill/>
          </a:ln>
        </p:spPr>
      </p:sp>
      <p:sp>
        <p:nvSpPr>
          <p:cNvPr id="333"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open a checking account at a bank or credit union, you will probably get a debit card. Sometimes a debit card is free, but sometimes you pay a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bit card is a way to pay for things with money from your checking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BB4F9-BEE1-4F43-A027-27470D2445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6880" cy="3486240"/>
          </a:xfrm>
          <a:prstGeom prst="rect">
            <a:avLst/>
          </a:prstGeom>
          <a:ln w="0">
            <a:noFill/>
          </a:ln>
        </p:spPr>
      </p:sp>
      <p:sp>
        <p:nvSpPr>
          <p:cNvPr id="33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bit cards look like credit cards, but do not work the same way. Credit cards use money that you borrow until you pay off your bill. Debit cards use money you already have in your checking account, so you do not increase your deb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use a debit card? Debit cards let you buy things without carrying cash. You also can get cash quickly using your debit card, either by using the card at an ATM to get money from your checking account, or by choosing the option to get “cash back” when you buy something with your debit card at a st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TMs and at some stores, you need to use your “pin number” on a key pad to use your debit card. A bank or credit union lets you choose a pin number that you can remember. A pin number is one way a bank tries to keep dishonest people from using your debit card, to get your money so you should never share your pin with any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Pres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talk about overdraft protection on a later slide, but this might be an opportunity to mention that, while you will not increase your debt with a debit card, you could still owe fees for a service like overdraft protection if you spend more money than you have in your account. </a:t>
            </a: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3CC1-3EDD-472C-8723-026E0CC68E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17440" y="696960"/>
            <a:ext cx="4646880" cy="3486240"/>
          </a:xfrm>
          <a:prstGeom prst="rect">
            <a:avLst/>
          </a:prstGeom>
          <a:ln w="0">
            <a:noFill/>
          </a:ln>
        </p:spPr>
      </p:sp>
      <p:sp>
        <p:nvSpPr>
          <p:cNvPr id="339"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ve already talked about, debit cards use money you already have. Credit cards let you borrow money that you will have to pay back. And if you don’t pay off your credit card bill every month, you will owe extra money in int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buying things with a debit card will not help you build a credit history. A credit card can help you do that, but only if you pay your bills o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44740-2D43-412F-A4E2-07C3E043C3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17440" y="696960"/>
            <a:ext cx="4646880" cy="3486240"/>
          </a:xfrm>
          <a:prstGeom prst="rect">
            <a:avLst/>
          </a:prstGeom>
          <a:ln w="0">
            <a:noFill/>
          </a:ln>
        </p:spPr>
      </p:sp>
      <p:sp>
        <p:nvSpPr>
          <p:cNvPr id="342"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ime when it is a good idea to use a credit card instead of a debit card is when you shop onl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debit card will work online. But if someone steals your debit card number online, that person could empty your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cards are a safer choice when you buy things online because someone who steals your credit card number cannot empty your bank account. Also, if you report the theft right away, the law says you can only lose up to $5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C777-228E-405C-A777-A523E4CE92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17440" y="696960"/>
            <a:ext cx="4646880" cy="3486240"/>
          </a:xfrm>
          <a:prstGeom prst="rect">
            <a:avLst/>
          </a:prstGeom>
          <a:ln w="0">
            <a:noFill/>
          </a:ln>
        </p:spPr>
      </p:sp>
      <p:sp>
        <p:nvSpPr>
          <p:cNvPr id="34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ry to pay for something with your debit card, but you don’t have enough money in your checking account, your card will be “declined.” You will not be able to buy whatever you were buy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igned up for “overdraft protection” at your bank or credit union, you might be able to buy something anyway. But your bank may charge you a high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might charge this fee </a:t>
            </a:r>
            <a:r>
              <a:rPr b="1" lang="en-US" sz="1200" spc="-1" strike="noStrike">
                <a:solidFill>
                  <a:srgbClr val="000000"/>
                </a:solidFill>
                <a:latin typeface="Calibri"/>
              </a:rPr>
              <a:t>every </a:t>
            </a:r>
            <a:r>
              <a:rPr b="0" lang="en-US" sz="1200" spc="-1" strike="noStrike">
                <a:solidFill>
                  <a:srgbClr val="000000"/>
                </a:solidFill>
                <a:latin typeface="Calibri"/>
              </a:rPr>
              <a:t>time you buy something until you put more money into your account. That could cost you a lot of money, by the time you repay your bank for whatever you bough, </a:t>
            </a:r>
            <a:r>
              <a:rPr b="1" lang="en-US" sz="1200" spc="-1" strike="noStrike">
                <a:solidFill>
                  <a:srgbClr val="000000"/>
                </a:solidFill>
                <a:latin typeface="Calibri"/>
              </a:rPr>
              <a:t>plus</a:t>
            </a:r>
            <a:r>
              <a:rPr b="0" lang="en-US" sz="1200" spc="-1" strike="noStrike">
                <a:solidFill>
                  <a:srgbClr val="000000"/>
                </a:solidFill>
                <a:latin typeface="Calibri"/>
              </a:rPr>
              <a:t> the fee.</a:t>
            </a:r>
            <a:endParaRPr b="0" lang="en-US" sz="1200" spc="-1" strike="noStrike">
              <a:solidFill>
                <a:srgbClr val="000000"/>
              </a:solidFill>
              <a:latin typeface="Calibri"/>
            </a:endParaRPr>
          </a:p>
        </p:txBody>
      </p:sp>
      <p:sp>
        <p:nvSpPr>
          <p:cNvPr id="34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539E6-D243-402B-991D-C7EFE4EDF7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17440" y="696960"/>
            <a:ext cx="4646880" cy="3486240"/>
          </a:xfrm>
          <a:prstGeom prst="rect">
            <a:avLst/>
          </a:prstGeom>
          <a:ln w="0">
            <a:noFill/>
          </a:ln>
        </p:spPr>
      </p:sp>
      <p:sp>
        <p:nvSpPr>
          <p:cNvPr id="348"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sure your account does not run out of money, write down each time you write a check, use your debit card, or take cash out of the bank. Subtract what you spend or take out from the money you have in the bank to see how much you hav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ceipt at the ATM or bank statement may tell you your “balance,” or how much money you have in your account.  But the bank may not have subtracted your most recent purchases y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know what you spend your money on every month? Have you ever tried writing it down? Will you start now? </a:t>
            </a:r>
            <a:endParaRPr b="0" lang="en-US" sz="1200" spc="-1" strike="noStrike">
              <a:solidFill>
                <a:srgbClr val="000000"/>
              </a:solidFill>
              <a:latin typeface="Calibri"/>
            </a:endParaRPr>
          </a:p>
        </p:txBody>
      </p:sp>
      <p:sp>
        <p:nvSpPr>
          <p:cNvPr id="34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59716-46B2-41C2-820D-3E7AC855DE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17440" y="696960"/>
            <a:ext cx="4646880" cy="3486240"/>
          </a:xfrm>
          <a:prstGeom prst="rect">
            <a:avLst/>
          </a:prstGeom>
          <a:ln w="0">
            <a:noFill/>
          </a:ln>
        </p:spPr>
      </p:sp>
      <p:sp>
        <p:nvSpPr>
          <p:cNvPr id="35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this has given you some ideas about your finances.  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5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8F47-3958-43DC-BAD5-5EF7536167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6880" cy="3486240"/>
          </a:xfrm>
          <a:prstGeom prst="rect">
            <a:avLst/>
          </a:prstGeom>
          <a:ln w="0">
            <a:noFill/>
          </a:ln>
        </p:spPr>
      </p:sp>
      <p:sp>
        <p:nvSpPr>
          <p:cNvPr id="309"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are places to keep your money safe. But that’s no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want to carry cash with you, having a bank account can help you pay for things without using cash.  Instead, you can use a debit card or a check.  You can save your money in a bank account.  Banks and credit unions also offer credit cards and loans to people who qualify.  Having a bank account could be a cheaper way to cash your paycheck than paying someone else to do it.  And many banks and credit unions offer money transfers, which might be cheaper than at other places, if you have a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E9040-43FD-490C-9CF9-0AF2502194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6880" cy="3486240"/>
          </a:xfrm>
          <a:prstGeom prst="rect">
            <a:avLst/>
          </a:prstGeom>
          <a:ln w="0">
            <a:noFill/>
          </a:ln>
        </p:spPr>
      </p:sp>
      <p:sp>
        <p:nvSpPr>
          <p:cNvPr id="312" name="PlaceHolder 2"/>
          <p:cNvSpPr>
            <a:spLocks noGrp="1"/>
          </p:cNvSpPr>
          <p:nvPr>
            <p:ph type="body"/>
          </p:nvPr>
        </p:nvSpPr>
        <p:spPr>
          <a:xfrm>
            <a:off x="673200" y="441936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unions offer the same services, — like checking accounts and loans — that banks offer. But to use a particular credit union, you have to be a member of a group that can joi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be able to join a credit union based on the community you live in, your church or other place of worship, or where you wor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there are differences between banks and credit unions?  What might the differences be?</a:t>
            </a: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D2E0D-F11E-447B-A425-1DD381F480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6880" cy="3486240"/>
          </a:xfrm>
          <a:prstGeom prst="rect">
            <a:avLst/>
          </a:prstGeom>
          <a:ln w="0">
            <a:noFill/>
          </a:ln>
        </p:spPr>
      </p:sp>
      <p:sp>
        <p:nvSpPr>
          <p:cNvPr id="31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ecking account is a place where you can keep your money safe, but also take it out and spend it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ey to pay bills or buy groceries would go in your checking account. While money you are saving for an emergency might go in a different kind of account, called a savings account. We will talk about those in just a minu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pend money that is in your checking account by writing a check or using a debit card.  You can also get cash from your account at an ATM.  It’s almost always cheaper to use an ATM from your own bank.  If you use another bank’s ATM, they might charge you an extra f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AF28-932F-40E6-93C7-B0F9116DF6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6880" cy="3486240"/>
          </a:xfrm>
          <a:prstGeom prst="rect">
            <a:avLst/>
          </a:prstGeom>
          <a:ln w="0">
            <a:noFill/>
          </a:ln>
        </p:spPr>
      </p:sp>
      <p:sp>
        <p:nvSpPr>
          <p:cNvPr id="318"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discussed, a checking account with a debit card can help you buy things without having to carry cash.  Some people like that for safety.  Some people think it’s easier to keep track of what you spend that 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hecking account, you also can get cash, pay bills online, and maybe even have a better chance of getting a loan through your bank or credit union.  Of course, that depends on your credit history.  With a checking account, you can deposit your pay check or other checks , probably without paying a fee.  And it might even be easy and cheap to wire mone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you can do some of these things — like cash checks — at places that are not banks, these services might be less expensive at a bank where you have an account.</a:t>
            </a: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E2610-0510-43E2-A23C-EA52297DB0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77840" y="685800"/>
            <a:ext cx="4648320" cy="3486240"/>
          </a:xfrm>
          <a:prstGeom prst="rect">
            <a:avLst/>
          </a:prstGeom>
          <a:ln w="0">
            <a:noFill/>
          </a:ln>
        </p:spPr>
      </p:sp>
      <p:sp>
        <p:nvSpPr>
          <p:cNvPr id="32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avings account is a separate account where you can put money that you don’t need to spend anytime soon. Keeping money in a savings account might make you less likely to spend it. </a:t>
            </a: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98C43-09AD-4A6D-A776-7DAC8159F8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6880" cy="3486240"/>
          </a:xfrm>
          <a:prstGeom prst="rect">
            <a:avLst/>
          </a:prstGeom>
          <a:ln w="0">
            <a:noFill/>
          </a:ln>
        </p:spPr>
      </p:sp>
      <p:sp>
        <p:nvSpPr>
          <p:cNvPr id="324" name="PlaceHolder 2"/>
          <p:cNvSpPr>
            <a:spLocks noGrp="1"/>
          </p:cNvSpPr>
          <p:nvPr>
            <p:ph type="body"/>
          </p:nvPr>
        </p:nvSpPr>
        <p:spPr>
          <a:xfrm>
            <a:off x="620280" y="4343400"/>
            <a:ext cx="550548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put money in your savings account to save up for emergencies, or to save for a goal like buying a 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might earn a little extra money through interest the bank pays on money in savings accounts. If you need to, you can transfer money from a savings account to a checking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all about banks and credit unions, and the checking and savings accounts they offer, how do you choose one?</a:t>
            </a: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ACF7-140D-4DE5-9BE1-B27A9C39CA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6880" cy="3486240"/>
          </a:xfrm>
          <a:prstGeom prst="rect">
            <a:avLst/>
          </a:prstGeom>
          <a:ln w="0">
            <a:noFill/>
          </a:ln>
        </p:spPr>
      </p:sp>
      <p:sp>
        <p:nvSpPr>
          <p:cNvPr id="327" name="PlaceHolder 2"/>
          <p:cNvSpPr>
            <a:spLocks noGrp="1"/>
          </p:cNvSpPr>
          <p:nvPr>
            <p:ph type="body"/>
          </p:nvPr>
        </p:nvSpPr>
        <p:spPr>
          <a:xfrm>
            <a:off x="696600" y="4343400"/>
            <a:ext cx="550548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banks and credit unions charge different fees, so you need to compare a few pl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o in person to the bank or credit union to ask questions, or you might look online. Try writing down the different fees each one charges for accounts that seem like they might work for you.</a:t>
            </a: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6E6A6-A340-4B15-A2B9-5B88752BDA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6880" cy="3486240"/>
          </a:xfrm>
          <a:prstGeom prst="rect">
            <a:avLst/>
          </a:prstGeom>
          <a:ln w="0">
            <a:noFill/>
          </a:ln>
        </p:spPr>
      </p:sp>
      <p:sp>
        <p:nvSpPr>
          <p:cNvPr id="330"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and credit unions charge you to write checks, use a debit card, or have an account. Some do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won’t charge you an account fee if you have your paycheck directly deposited. “Direct deposit” means your employer pays your salary directly into your checking account instead of giving you a paper check to c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each bank or credit union might offer different accounts. If you don’t have a lot of money to put in an account, you might want a checking account that doesn’t require a “minimum balance.” Otherwise, if you have less than the required amount of money, you will have to pay a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might want to make sure the bank or credit union has an ATM near where you live or work, or that they will give you money back for fees you have to pay to use another bank’s AT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one with a job, do you know if your employer offers direct deposit for paychecks? Will you ask?</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A1D8-BA33-4135-94DF-C3BB1A4E54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Using a Bank or Credit Union</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you get a debit card?</a:t>
            </a:r>
            <a:endParaRPr b="0" lang="en-US" sz="36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is a way to pay for thing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is connected to your accou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a debit card from your bank or credit union when you open a checking account</a:t>
            </a:r>
            <a:endParaRPr b="0" lang="en-US" sz="2800" spc="-1" strike="noStrike">
              <a:solidFill>
                <a:srgbClr val="40404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es a debit card work?</a:t>
            </a:r>
            <a:endParaRPr b="0" lang="en-US" sz="36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akes money from your checking accoun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ets you get cash at an ATM or “cash back” at a stor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not increase your debt</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has “a pin number” you need to enter to buy things or get cash at an ATM</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are debit cards and credit cards different?</a:t>
            </a:r>
            <a:endParaRPr b="0" lang="en-US" sz="32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use a cred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are borrowing money to spend now</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get a bill to pay lat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extra money in interest if you don’t pay your whole bill off every month</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use a deb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are using money you already have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will not get a bill</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an you use a debit card to shop online?</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but it is not the safest choice</a:t>
            </a:r>
            <a:endParaRPr b="0" lang="en-US" sz="28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redit cards are a safer choice for buying things online</a:t>
            </a:r>
            <a:endParaRPr b="0" lang="en-US" sz="2800" spc="-1" strike="noStrike">
              <a:solidFill>
                <a:srgbClr val="40404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you run out of money?</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f you don’t have enough money in your checking accoun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debit card will be rejected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r, with “overdraft protection,” you might pay a high fee</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can you avoid running out of money?</a:t>
            </a:r>
            <a:endParaRPr b="0" lang="en-US" sz="3600" spc="-1" strike="noStrike">
              <a:solidFill>
                <a:srgbClr val="404040"/>
              </a:solidFill>
              <a:latin typeface="Calibri"/>
            </a:endParaRPr>
          </a:p>
        </p:txBody>
      </p:sp>
      <p:sp>
        <p:nvSpPr>
          <p:cNvPr id="30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rite down what you spend or take out of your account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ubtract what you take out from the money still in the accoun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at is how much money you have lef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remember to subtract any fee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hoosing a Bank or Credit Union</a:t>
            </a:r>
            <a:endParaRPr b="0" lang="en-US" sz="3600" spc="-1" strike="noStrike">
              <a:solidFill>
                <a:srgbClr val="404040"/>
              </a:solidFill>
              <a:latin typeface="Calibri"/>
            </a:endParaRPr>
          </a:p>
        </p:txBody>
      </p:sp>
      <p:sp>
        <p:nvSpPr>
          <p:cNvPr id="30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use a bank?</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 is a place to keep your money saf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s services include:</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hecking accounts and savings account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ebit cards and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an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heck cashing and money transfers</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heck cashing and money transfers might cost less at a bank than at other places if you have an accoun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union?</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ffers the same services as a bank</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have to be part of a group that is allowed to joi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r example, if you:</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ive in a particular communit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re a member of a place of worship</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re an employee at a certain compan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hecking account?</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place to keep money safe until you need </a:t>
            </a:r>
            <a:br>
              <a:rPr sz="2800"/>
            </a:br>
            <a:r>
              <a:rPr b="0" lang="en-US" sz="2800" spc="-1" strike="noStrike">
                <a:solidFill>
                  <a:srgbClr val="404040"/>
                </a:solidFill>
                <a:latin typeface="Calibri"/>
              </a:rPr>
              <a:t>to spend i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ften called a “bank accoun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would you have a checking account?</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your money saf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able to pay with a debit card or check</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able to get cash from an ATM</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ay bills onlin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access to loans, depending on your credit histor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sh pay checks or wire money</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savings account?</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n account for money you want to save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t keeps money you want to save separate from money you might spend in your checking account</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would you open a savings accoun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use a savings account t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ave money for emergencies or goal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your money saf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some money separate from the money you spend every month</a:t>
            </a:r>
            <a:endParaRPr b="0" lang="en-US" sz="2400" spc="-1" strike="noStrike">
              <a:solidFill>
                <a:srgbClr val="404040"/>
              </a:solidFill>
              <a:latin typeface="Calibri"/>
            </a:endParaRPr>
          </a:p>
          <a:p>
            <a:pPr lvl="2" marL="914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 you choose a bank or credit union?</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efore you open an accoun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ompare the services and fees at a few banks or credit unions. Go to their websites or visit in perso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ind out what kind of checking and savings accounts are offered</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sk what fees you will pay for each account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fees should you ask about?</a:t>
            </a:r>
            <a:endParaRPr b="0" lang="en-US" sz="36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marL="343080" indent="-3430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 or credit union might charge you for:</a:t>
            </a:r>
            <a:endParaRPr b="0" lang="en-US" sz="28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aving a checking account</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using a debit card</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ting cash from another bank’s ATMs</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aving less than the minimum balance in your account</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pending more money than you have in your account</a:t>
            </a:r>
            <a:endParaRPr b="0" lang="en-US" sz="2400" spc="-1" strike="noStrike">
              <a:solidFill>
                <a:srgbClr val="40404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avoid some fees if you ask your employer to have your paycheck deposited directly into your accoun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06T20:02:33Z</cp:lastPrinted>
  <dcterms:modified xsi:type="dcterms:W3CDTF">2012-10-03T13:43:24Z</dcterms:modified>
  <cp:revision>102</cp:revision>
  <dc:subject/>
  <dc:title>Your Credit History</dc:title>
</cp:coreProperties>
</file>